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31A-76A6-4361-ACBE-E9941CA7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542-6633-4979-8A7E-A186351B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9D6-A4EB-4DD6-BB5E-577FB91A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939-11DB-45B3-B33F-750F83FE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E9AF-AE8A-4B9F-8823-6FBF72FD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7F87-AEFE-469B-A465-01F332CF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F579-6060-4AAB-9CCA-3385F922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578E-03D2-492F-885C-2D903B8D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A86F-D9F2-4D20-B9F0-C917489E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593F-B7A5-4959-8C15-20671C55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8F62-BE7B-42C2-B11B-CBD8B13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7E6-AC9E-46C6-8E82-4C3DAA4A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EB35-17AC-4512-88B7-CB6B03D2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2277-B434-4EBA-A16C-6E54673B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4BFC-7268-4107-B63A-99830F96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5B34-6B4C-4841-8DAD-A1242F33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6CF8-253A-4245-A72E-68D81D81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72814-889D-41C0-B2AB-721B61EE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B64F0-A524-4534-B6CD-9083ED92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F051F-06D3-4EBC-80AD-BFDC09EA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9CAF-7DA8-4D16-A217-1C358F62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682F-1877-4349-9DEB-F767FB2C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8EF-001D-4A14-8844-26DD01FE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3993-64B2-4FDB-976E-A143D51C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957EB-E32E-4AE4-86C2-745D63BF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B36B-6606-4C0B-BF37-0C2668C3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0EF7-BAF8-4F79-84CC-45AD16B6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D544-12D9-48A0-8B3D-C872F704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05831-DD93-498C-ADBA-685F0A08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E9D8-60C1-4C15-A3E3-44BD6980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D5D59-BA0B-433F-83BF-2F0CFB38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D84A0-D08D-4042-8142-43DF7330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B3415-3AB2-49EB-A2B3-D5498B98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BC8-8435-4685-BBC8-01B4C770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1B4AD-1401-4089-A05B-B08CE2C8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0490A-E0ED-4FBF-AA27-B82BF58D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06AC-9175-4E7C-A4EE-0E040D12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B0BF-5365-40D4-BB91-092F12F1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32C56-C82D-4CFF-BBD4-9A5BE57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2A151-E534-43A2-B75E-2777501A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A830-4E1F-489F-8491-90BDC00A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52C3-06CC-4265-BEFF-47A17266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7B4C-4BC0-4128-A609-000A04B6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FD0B8-35DD-4364-9DFD-2F0AB2E3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E43-1413-4F66-9AAB-62230CEC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DB4F3-1082-4774-BC64-6382FDAA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16592-43C3-412F-93A4-C163DAD6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4BA1C-9C05-4AE0-AB58-CEBE8761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A44EC-CE60-473C-94C7-BFD085AF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E933E-C2C4-48D8-8E8D-3CA0EE9E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CCE4E-5817-444D-9E32-A989F7D4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4BD39-1290-4ED6-B594-CE8E2F42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70DA6-F653-4FB5-8E58-15E951E2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62759-AC46-4F02-AC22-08C2384B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20337-F8E6-4135-84AD-0552E79F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C63-38CD-4CBF-A85E-78B21015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9D7C3-1D4F-440A-B589-40F940DA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B39-580A-400B-8841-833A8A40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551-CEFD-423F-92EE-2E58E2FC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983-4216-4F1E-98C8-5C7818CC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6C66-F051-4D18-9396-0579FE7A294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4F7-A58E-454C-8F01-E5237FD4F13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4D1C-316A-4B5B-87F3-B4134EE8C94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714B-562D-422F-9B52-B98B1728D17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A5E8-2DC3-4596-AF5D-7E0FE5027AF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тов к Труду и Оборон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2940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тягивания прямым хва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диционный вариант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акцент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ышцы спины и предплечь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сполн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озьмитесь за перекладину хватом, равным ширине плеч. Повисни, немного прогнув спину и скрестив ноги. Подтягивайся, сводя лопатки и стараясь коснуться перекладины верхом груди. Когда отпускаешься в нижней точке полностью выпрямляй ру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тягивания обратным хва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вариант легче предыдущего. Основной акцент: широчайшие мышцы спины и бицеп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нение: хват, равный ширине плеч, только ладони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бя. Подтягивайся, придерживаясь тех же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" descr="C:\Users\Ждановы\Desktop\ex04-1.gif"/>
          <p:cNvPicPr/>
          <p:nvPr/>
        </p:nvPicPr>
        <p:blipFill>
          <a:blip r:embed="rId2"/>
          <a:stretch/>
        </p:blipFill>
        <p:spPr>
          <a:xfrm>
            <a:off x="7429680" y="2143080"/>
            <a:ext cx="1546200" cy="1546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C:\Users\Ждановы\Desktop\ex08-2.gif"/>
          <p:cNvPicPr/>
          <p:nvPr/>
        </p:nvPicPr>
        <p:blipFill>
          <a:blip r:embed="rId3"/>
          <a:stretch/>
        </p:blipFill>
        <p:spPr>
          <a:xfrm>
            <a:off x="7143840" y="4857840"/>
            <a:ext cx="1690560" cy="1690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2940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жде чем приступать к тренировкам по подтягиваниям, нужно определить к какой группе относишься ты. Выполняй предписанный комплекс 2-3 раза в неделю и через месяц протестируй себя и внеси корректи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вая группа. Лучшая попытка от 0 до 1 раз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ации: выполняй только обратную часть подтягиваний. Подставь под перекладину лавку, встань на нее и подтягивайся вверх с помощью ног, а отпускайся только за счет силы рук. Между сериями отдыхай ровно 1 мину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к тренир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неделя: 3 серии по 5-6 повторов, 5-6 секунд на отпус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неделя: 3 серии по 5-6 повторов, 5-6 секунд на отпус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неделя: 3 серии по 5-6 повторов, 8-10 секунд на отпус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неделя: 3 серии по 5-6 повторов, 8-10секунд на отпус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торая группа. Лучшая попытка от 2 до 4 ра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ации: делай большее количество серий с меньшим количеством повторов. Самые первые повторы будут максимально интенсивными, что позволит задействовать большинство мыш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к трениров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неделя: 8 серий, 50% от лучшей попытки, 90 секунд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неделя: 8 серий, 50% от лучшей попытки, 60 секунд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неделя: 8 серий, лучшая попытка, 90 секунд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неделя: 8 серий, лучшая попытка, 60 секунд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2940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ретья группа. Лучшая попытка от 5 до 7 ра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комендации: делай большее количество раз, чем обычно, не считая количество серий. Например если ты обычно выполняешь 3 серии по 6 раз, что в сумме будет 18, сделай 30 раз, не обращая внимания на количество сер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к тренировок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делай максимальное количество подтягиваний, отдохни минуту и повтори попытку. Далее отдыхай сколько захочешь пока не сделаешь необходимое количество раз. Каждую неделю количество раз можно незначительно увеличива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етвертая группа. Лучшая попытка от 8 до 12 раз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комендации: подтягивайся с отягощени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к тренировок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репи к специальному поясу отягощение. Ты можешь подтянуться в 2-3 раза меньше чем обычно. Выполняй 4-5 серий с отягощением максимальное количество раз, отдыхая между сериями 60 секун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29400" cy="1150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тягивание на низкой переклади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кладина находится на высоте от 40 до 65 см в зависимости от роста. Повиснуть на этой перекладине. Хват – прямой, корпус и ноги вытянуть в одну линию. Сводя лопатки и сохраняя тело идеально прямым, подтягиваемся, коснувшись перекладины грудью. Плавно возвращаясь в исходное полож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" descr="C:\Users\Ждановы\Desktop\05f00aa7b51e68bd14713a5c5a2f0984_cropped_6923777251fffd3b5049475339a60cd4_550x387.jpg"/>
          <p:cNvPicPr/>
          <p:nvPr/>
        </p:nvPicPr>
        <p:blipFill>
          <a:blip r:embed="rId2"/>
          <a:stretch/>
        </p:blipFill>
        <p:spPr>
          <a:xfrm>
            <a:off x="4000680" y="4357800"/>
            <a:ext cx="3143160" cy="2211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личают два стиля катания на лыжа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ический стиль – лыжи перемещаются параллельно относительно друг дру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ьковый стиль – лыжник двигается как конькобежец, отталкиваясь от снега внутренней поверхностью лыж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ыжи изготавливают из 2 материал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ре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с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большим спросом пользуются именно пластиковые лыжи, а деревянные лыжи уже мало где можно купить. Пластиковые лыжи имеют много преимуществ перед деревянными. Они прочнее, долговечнее – не расслаиваются и не намокают, они легче и скоростнее. На пластиковых лыжах можно кататься даже в оттеп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" descr="C:\Users\Ждановы\Desktop\12987567524711.jpg"/>
          <p:cNvPicPr/>
          <p:nvPr/>
        </p:nvPicPr>
        <p:blipFill>
          <a:blip r:embed="rId2"/>
          <a:stretch/>
        </p:blipFill>
        <p:spPr>
          <a:xfrm>
            <a:off x="7215120" y="142884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C:\Users\Ждановы\Desktop\07be573055ec.jpg"/>
          <p:cNvPicPr/>
          <p:nvPr/>
        </p:nvPicPr>
        <p:blipFill>
          <a:blip r:embed="rId3"/>
          <a:stretch/>
        </p:blipFill>
        <p:spPr>
          <a:xfrm>
            <a:off x="6194520" y="5715000"/>
            <a:ext cx="294948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правильно выбрать длину лыж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ина. Основной способ вытянуть руку вверх и из получившейся высоты отнять 10 с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мечан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если ваш вес намного больше (меньше) роста, указанного в таблице, вам нужно от длины лыж, предлагаемой в таблице, отнять (прибавить) 5-8 с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таблица по которой можно вычислить длину лыж и пал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285920" y="4357800"/>
          <a:ext cx="6095880" cy="21081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с (к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-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-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 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-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-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-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-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-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-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лыж 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-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-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-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-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-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-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палок 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-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-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-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-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85840" y="-219240"/>
            <a:ext cx="7462800" cy="1152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356760" y="114264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(2 класс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2960" y="1643040"/>
          <a:ext cx="6429240" cy="4378320"/>
        </p:xfrm>
        <a:graphic>
          <a:graphicData uri="http://schemas.openxmlformats.org/drawingml/2006/table">
            <a:tbl>
              <a:tblPr/>
              <a:tblGrid>
                <a:gridCol w="428760"/>
                <a:gridCol w="1928520"/>
                <a:gridCol w="1071720"/>
                <a:gridCol w="857160"/>
                <a:gridCol w="1071720"/>
                <a:gridCol w="1071360"/>
              </a:tblGrid>
              <a:tr h="368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испы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ьч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воч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ночный бе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г 30 мет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г 600 мет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учета време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ыжки в длину с места (с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ание мяча в ц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тягивание на высокой перекладин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тягивание на низкой перекладин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лон вниз с прямыми ног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пальцами ру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ладон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пальцами ру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ладон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ыжные гонки 1 км (м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ыжные гонки 2 к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285840" y="-219240"/>
            <a:ext cx="7462800" cy="11527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356760" y="114264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(3-4 класс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642960" y="1643040"/>
          <a:ext cx="6429240" cy="4378320"/>
        </p:xfrm>
        <a:graphic>
          <a:graphicData uri="http://schemas.openxmlformats.org/drawingml/2006/table">
            <a:tbl>
              <a:tblPr/>
              <a:tblGrid>
                <a:gridCol w="428760"/>
                <a:gridCol w="1928520"/>
                <a:gridCol w="1071720"/>
                <a:gridCol w="857160"/>
                <a:gridCol w="1071720"/>
                <a:gridCol w="10713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испы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ьч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воч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г 60 мет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г 600 метров (м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г 1500 мет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ыжки в длину с места (с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ание мяча на да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тягивание на высокой перекладин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тягивание на низкой перекладин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лон вниз с прямыми ног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пальцами ру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ладон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пальцами ру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тать ладон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ыжные гонки 1 км (м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ыжные гонки 2 к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грамма физкультурной подготовки в общеобразовательных школах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ществовала программа с 1931 по 1991 год. Охватывала возраст от 10 до 60 лет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2010 года программа начала свое возрождени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09440" y="-6480"/>
            <a:ext cx="7491600" cy="1158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C:\Users\Ждановы\Desktop\az_02.jpg"/>
          <p:cNvPicPr/>
          <p:nvPr/>
        </p:nvPicPr>
        <p:blipFill>
          <a:blip r:embed="rId2"/>
          <a:stretch/>
        </p:blipFill>
        <p:spPr>
          <a:xfrm>
            <a:off x="5072040" y="3774960"/>
            <a:ext cx="2673360" cy="27450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7"/>
          <p:cNvSpPr/>
          <p:nvPr/>
        </p:nvSpPr>
        <p:spPr>
          <a:xfrm>
            <a:off x="357120" y="1214280"/>
            <a:ext cx="7000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ача нормативов подтверждалась особыми значками. Чтобы получить такой значок, нужно было выполнить заданный набор требований, например: пробежать на скорость 30 метров, подтянуться определённое количество раз, пройти на лыжах 2 к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зависимости от уровня достижений сдающие нормативы каждой ступени награждались золотым или серебряным значк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6" descr="C:\Users\Ждановы\Desktop\az_11.jpg"/>
          <p:cNvPicPr/>
          <p:nvPr/>
        </p:nvPicPr>
        <p:blipFill>
          <a:blip r:embed="rId3"/>
          <a:stretch/>
        </p:blipFill>
        <p:spPr>
          <a:xfrm>
            <a:off x="1928880" y="3784680"/>
            <a:ext cx="2714400" cy="2778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сдаче норм ГТО существует несколько ступеней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– 1-2 клас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1 классы нормы не сдают, только знакомятся с видами испытаний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– 3-4 клас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– 5-7 клас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– 8-9 клас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– 10-11 клас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упень – студенты от 18 до 24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ступень – от 25 до 29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699320" cy="1176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ег 30, 60 метров, либо челночный бег 3х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оссовый бег 600, 1500 метр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ыжок в длину с мес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тание мяча в цель, либо на дальн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тягивание на высокой и низкой перекладина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клон вниз с прямыми ног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ыжные гонки 1, 2 к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олняется с высокого стар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ика выполнения команды «На старт!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льнейшую ногу поставить вплотную к стартовой лин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ного повернуть носок внутр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угая нога на 1,5–2 стопы сзад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яжесть тела равномерно распределяется на обе ног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уловище выпрямлен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ки свободно опуще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ика выполнения команды «Внимание!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клонить туловище вперед под углом 45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яжесть тела перенести на сильнейшую ног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ика выполнения команды «Марш!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гун резко бросается впере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рез 5–6 шагов принимается вертикальное положение те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C:\Users\Ждановы\Desktop\13-16.jpg"/>
          <p:cNvPicPr/>
          <p:nvPr/>
        </p:nvPicPr>
        <p:blipFill>
          <a:blip r:embed="rId2"/>
          <a:stretch/>
        </p:blipFill>
        <p:spPr>
          <a:xfrm>
            <a:off x="6572160" y="642960"/>
            <a:ext cx="952560" cy="26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Users\Ждановы\Desktop\13-17.jpg"/>
          <p:cNvPicPr/>
          <p:nvPr/>
        </p:nvPicPr>
        <p:blipFill>
          <a:blip r:embed="rId3"/>
          <a:stretch/>
        </p:blipFill>
        <p:spPr>
          <a:xfrm>
            <a:off x="5143680" y="3357720"/>
            <a:ext cx="1466640" cy="2104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Users\Ждановы\Desktop\13-18.jpg"/>
          <p:cNvPicPr/>
          <p:nvPr/>
        </p:nvPicPr>
        <p:blipFill>
          <a:blip r:embed="rId4"/>
          <a:stretch/>
        </p:blipFill>
        <p:spPr>
          <a:xfrm>
            <a:off x="6429240" y="4214880"/>
            <a:ext cx="1524240" cy="2343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ика прыжка в длину с места делится н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готовку к отталкива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талкив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земление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" descr="C:\Users\Ждановы\Desktop\ref-2_865276534-9045.coolpic"/>
          <p:cNvPicPr/>
          <p:nvPr/>
        </p:nvPicPr>
        <p:blipFill>
          <a:blip r:embed="rId2"/>
          <a:stretch/>
        </p:blipFill>
        <p:spPr>
          <a:xfrm>
            <a:off x="1143000" y="4071960"/>
            <a:ext cx="485784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ржание мяча: указательный, средний, безымянный пальцы размещены сзади мяча, а большой и мизинец поддерживают мяч сбоку. Рука, удерживающая снаряд, не напряж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ика метания мяча состоит из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ржание мяч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ах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роск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C:\Users\Ждановы\Desktop\15.jpg"/>
          <p:cNvPicPr/>
          <p:nvPr/>
        </p:nvPicPr>
        <p:blipFill>
          <a:blip r:embed="rId2"/>
          <a:stretch/>
        </p:blipFill>
        <p:spPr>
          <a:xfrm>
            <a:off x="3057480" y="4214880"/>
            <a:ext cx="4092480" cy="1708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2940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 юношей используется подтягивание на высокой перекладине. Существует 2 вида подтягивани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тягивания прямым хват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тягивания обратным хват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 девушек используется подтягивание на низкой перекладин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5:21:02Z</dcterms:created>
  <dc:creator>Ждановы</dc:creator>
  <dc:description/>
  <dc:language>en-US</dc:language>
  <cp:lastModifiedBy>User</cp:lastModifiedBy>
  <dcterms:modified xsi:type="dcterms:W3CDTF">2014-12-24T07:17:18Z</dcterms:modified>
  <cp:revision>28</cp:revision>
  <dc:subject/>
  <dc:title>ГТО</dc:title>
</cp:coreProperties>
</file>